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DCD-265A-4559-AB3C-739AC524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888-4473-4259-B100-5074922B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8F6-BDD0-4298-BF2F-8D3914AF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B17-2DFC-4EB8-84D7-F4C19A4E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897-E491-4D35-A13B-5E71B0B9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44F-CD45-4110-89D0-D73EFD0B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436-6AAE-40A3-B8E3-DBBA4712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829-7CC0-46F9-90B2-96ECA49B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6E0-CADA-4D02-BD45-415B735A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5C9-D714-421E-8F38-2B021726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14E-F815-4C03-9868-B5A67A8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034-0C7D-4ED8-B384-69181BE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1EEB-FD42-4781-ACDB-56DACEBBD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ayvand.com/news/08/may/1068.html" TargetMode="External"/><Relationship Id="rId2" Type="http://schemas.openxmlformats.org/officeDocument/2006/relationships/hyperlink" Target="http://www.123independenceday.com/iran/economy.html" TargetMode="External"/><Relationship Id="rId3" Type="http://schemas.openxmlformats.org/officeDocument/2006/relationships/hyperlink" Target="http://www.iranchamber.com/history/historic_periods.php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you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y Wenschh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ur of I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vand. 7 may 2008. Netnative. 18 February 2009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yvand.com/news/08/may/1068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day. com. 2008. compare InfoBase limited. 18 February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123independenceday.com/iran/economy.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an Chamber Society. 18 February 2009. Iran Chamber Society. 18 February 2009.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ranchamber.com/history/historic_periods.ph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 of Ir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’s location is surrounded by Afghanistan, Pakistan, Soviet Union, Saudi Arabia, Turkey, and Ira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ran most of the land is desert such as the Near Yzad dese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mor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 could be divided into the major river basins. The Central Plateau in the middle, Lake Orumieh basin in the North-West. The Persian Gulf, and also the Gulf of Oman in the West and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’s natural hazards are pretty harsh.  Hazards Iran has to deal with is periodic droughts, floods, dust storms, sand storms, and earthqu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Wild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 has animals such as wild boar, bears, eagles, pheasant, cattle, horses, panthers, and wild pi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n’s common vegetation include brown soil as far as forest climate soi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1120" y="33984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ran’s emperor is Mohammad Reza Pahla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ther political leaders are the leader of the revolution i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yatollah Sayy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Ruhollah Mousavi Khomei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&amp;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41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amite Empire 2500-644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an Empire 728-55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haemenid Empire 550-33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ucid Empire 306-c 15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hian Empire 247 BCE 224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ssania Empire 224-642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ic Conquest 636 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farid Dynasty 861-900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anid Dynasty 819-999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ivarid Dynasty 927-1043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haznavid Dynasty 962-1186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avid Empire 1502-17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sharid Dynasty 1736-17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nd Dynasty 1757-17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ajar Dynasty 1794-19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hlavi Dynasty 1925-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lamic Revolutio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-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trol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r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gricultur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- 8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ong 139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cy- Iranian rial (IR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man wear “lappa” and bu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 wear “vai shirt” and “thous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of the Iran food have 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speak Fars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0% population are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ligious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hran Pasargadae city Soltsniy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kht-E-soleyman Tchogha Zanbil I the city tourist at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storical attractions- tchogha Zabn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epolis, takht-E-Soleyman, and b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39:55Z</dcterms:created>
  <dc:creator>coreyewenschhof</dc:creator>
  <dc:description/>
  <dc:language>en-US</dc:language>
  <cp:lastModifiedBy>McFaddeR</cp:lastModifiedBy>
  <dcterms:modified xsi:type="dcterms:W3CDTF">2009-03-04T20:31:49Z</dcterms:modified>
  <cp:revision>6</cp:revision>
  <dc:subject/>
  <dc:title>The Tour of Iran</dc:title>
</cp:coreProperties>
</file>